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F98-0568-430F-B444-937CE15E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FCD-670F-4702-A0A4-2134E8BD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308-7C3F-4BBB-AA03-3131C146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542-A8F1-4E51-B0EC-1B145B51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2E4-5815-4B14-9E6D-8E10A53B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B3E-6644-47D8-88CB-0AB16DAD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685-D965-415D-84DC-2685530D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C55-364B-4875-8828-8FF5A91D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188-0E81-4652-B5C0-CD158F20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4AD-026F-4555-89E6-E4FC026B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F81-20CB-4101-A9B3-39FBC94F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AB5-9F1D-4148-8FD9-7B27E0B1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1E6D-9972-402D-A2BE-D4CBEF51B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2.wmf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526015X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09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510078X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-108" descr=""/>
          <p:cNvPicPr/>
          <p:nvPr/>
        </p:nvPicPr>
        <p:blipFill>
          <a:blip r:embed="rId1"/>
          <a:stretch/>
        </p:blipFill>
        <p:spPr>
          <a:xfrm>
            <a:off x="-457200" y="-590400"/>
            <a:ext cx="9829800" cy="803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515005X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10029X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990720"/>
            <a:ext cx="861048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пределение</a:t>
            </a: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  на гре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743200"/>
            <a:ext cx="84582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змий ме съвършено от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беззакони</a:t>
            </a:r>
            <a:r>
              <a:rPr b="0" lang="bg-BG" sz="4000" spc="-1" strike="noStrike" u="sng">
                <a:solidFill>
                  <a:srgbClr val="ffffcc"/>
                </a:solidFill>
                <a:uFillTx/>
                <a:latin typeface="Tahoma"/>
              </a:rPr>
              <a:t>ето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м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и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очисти ме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грех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ми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щото </a:t>
            </a:r>
            <a:r>
              <a:rPr b="0" lang="bg-BG" sz="4000" spc="-1" strike="noStrike" u="sng">
                <a:solidFill>
                  <a:srgbClr val="ffffcc"/>
                </a:solidFill>
                <a:uFillTx/>
                <a:latin typeface="Tahoma"/>
              </a:rPr>
              <a:t>престъплениет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си аз признава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 грех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т ми е винаги пред мен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.</a:t>
            </a:r>
            <a:r>
              <a:rPr b="0" i="1" lang="bg-BG" sz="4000" spc="-1" strike="noStrike">
                <a:solidFill>
                  <a:srgbClr val="ffff66"/>
                </a:solidFill>
                <a:latin typeface="Tahoma"/>
              </a:rPr>
              <a:t>Пс.51:2,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38088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Беззаконие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 - 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«изкрив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ен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», или «ог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20040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Ис. 53:6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«В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чки ние се заблудихм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ка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овц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;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отбихме се всеки в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в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 си пъ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; и Господ възложи на Него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беззаконието на всички н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82880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Пс. 5</a:t>
            </a:r>
            <a:r>
              <a:rPr b="0" i="1" lang="bg-BG" sz="40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0" i="1" lang="bg-BG" sz="4000" spc="-1" strike="noStrike">
                <a:solidFill>
                  <a:srgbClr val="ffff66"/>
                </a:solidFill>
                <a:latin typeface="Tahoma"/>
              </a:rPr>
              <a:t>7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родих се в нечестие, и в грях ме зачна майка м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520" y="1295280"/>
            <a:ext cx="838188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Ис. 64:6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щото всички станахм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ка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 човек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ечист, и в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чката н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равд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 е като омърсена дрех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;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ние всички вехнем като лис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и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нашите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беззакония н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завлича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как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.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17680" y="498600"/>
            <a:ext cx="8169120" cy="646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66"/>
                </a:solidFill>
                <a:latin typeface="Tahoma"/>
              </a:rPr>
              <a:t>Мат. 7:22,23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В онзи ден, мнозина ще Ми река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: "Господи! Господи! не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Тво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ли име проро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кувахме,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не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в 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Тво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ли име бесов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изгон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ихме,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и н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Тво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ли им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 направихм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мног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велики дел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?"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Но 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тога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ва ще им заявя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: "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Аз 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никога н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 съм ви п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знава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л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;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махнете с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от Мен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е ви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които вършит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беззаконие"».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7680" y="498600"/>
            <a:ext cx="816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Грях</a:t>
            </a:r>
            <a:r>
              <a:rPr b="0" i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«не попа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дане в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 цел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1565280"/>
            <a:ext cx="82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Доколк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в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чки ние се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ждам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духовно «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ривени», н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е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удно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да се разбер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що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«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м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равед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н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и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» и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що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«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ма кой да прави добр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ма н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(Рим. 3:10, 12)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cc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501071X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19520"/>
            <a:ext cx="83059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 това благовестие на царството ще бъде проповядвано по цялата вселена, за свидетелство на всичките народи; и тогава ще дойде свършекъ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1430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99"/>
                </a:solidFill>
                <a:latin typeface="Tahoma"/>
              </a:rPr>
              <a:t>Евангелие от Матея 24: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7680" y="498600"/>
            <a:ext cx="8169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Престъпление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 -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преднамерено нарушение на зако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680" y="1905120"/>
            <a:ext cx="824544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66"/>
                </a:solidFill>
                <a:latin typeface="Tahoma"/>
              </a:rPr>
              <a:t>Гал. 3:19</a:t>
            </a:r>
            <a:r>
              <a:rPr b="0" lang="ru-RU" sz="38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ът 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б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ил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да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ден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за да направ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грех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прест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лени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3640" y="3244680"/>
            <a:ext cx="80931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66"/>
                </a:solidFill>
                <a:latin typeface="Tahoma"/>
              </a:rPr>
              <a:t>Иак. 2:9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ът н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убежда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, ч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е см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прест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ни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ц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724280"/>
            <a:ext cx="800100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66"/>
                </a:solidFill>
                <a:latin typeface="Tahoma"/>
              </a:rPr>
              <a:t>Рим. 3:20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Грех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ъ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м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оже да бъде позна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посредством закона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7680" y="498600"/>
            <a:ext cx="8169120" cy="16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Престъпление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 -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преднамерено нарушение на зако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7680" y="1736640"/>
            <a:ext cx="824544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Рим. 5:20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е разрешава проблем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 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греха, а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ще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повече г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услож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3640" y="3809880"/>
            <a:ext cx="8093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Рим. 7:7—13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раз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рива наш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греховно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показв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аш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е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тоятелност там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к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дел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 се отнася д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раведнос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7680" y="498600"/>
            <a:ext cx="816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Ключови м</a:t>
            </a:r>
            <a:r>
              <a:rPr b="1" lang="bg-BG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7680" y="1371600"/>
            <a:ext cx="82454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1. Грехът е 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ник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нал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а неб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в мисл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те 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Люцифер, вожд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 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ангел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т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ffcc99"/>
                </a:solidFill>
                <a:latin typeface="Tahoma"/>
              </a:rPr>
              <a:t>(</a:t>
            </a:r>
            <a:r>
              <a:rPr b="0" i="1" lang="bg-BG" sz="4000" spc="-1" strike="noStrike">
                <a:solidFill>
                  <a:srgbClr val="ffff66"/>
                </a:solidFill>
                <a:latin typeface="Tahoma"/>
              </a:rPr>
              <a:t>виж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 Иез. 28:14. 15)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3640" y="3809880"/>
            <a:ext cx="809316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. Съблаз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вай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Адам и Е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к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гр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х, Люцифер (сатана)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лад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 този свя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0" i="1" lang="bg-BG" sz="4000" spc="-1" strike="noStrike">
                <a:solidFill>
                  <a:srgbClr val="ffff66"/>
                </a:solidFill>
                <a:latin typeface="Tahoma"/>
              </a:rPr>
              <a:t>виж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 Б</a:t>
            </a:r>
            <a:r>
              <a:rPr b="0" i="1" lang="bg-BG" sz="4000" spc="-1" strike="noStrike">
                <a:solidFill>
                  <a:srgbClr val="ffff66"/>
                </a:solidFill>
                <a:latin typeface="Tahoma"/>
              </a:rPr>
              <a:t>и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т. 3:1—24; Лк. 4:5. 6; 2 Петр. 2:19)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7680" y="498600"/>
            <a:ext cx="816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Ключови м</a:t>
            </a:r>
            <a:r>
              <a:rPr b="1" lang="bg-BG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7680" y="1371600"/>
            <a:ext cx="824544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. Беззако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ва понятие не с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от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я к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погрешните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ейств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а к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състоян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то 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греховност; по природ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 ние см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духовно «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ри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 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0" i="1" lang="bg-BG" sz="4000" spc="-1" strike="noStrike">
                <a:solidFill>
                  <a:srgbClr val="ffff66"/>
                </a:solidFill>
                <a:latin typeface="Tahoma"/>
              </a:rPr>
              <a:t>виж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 Пс. 50:7; Ис. 53:6: Ис. 64:6)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7680" y="498600"/>
            <a:ext cx="816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Ключови м</a:t>
            </a:r>
            <a:r>
              <a:rPr b="1" lang="bg-BG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7680" y="2133720"/>
            <a:ext cx="824544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Б. Гря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Буквално — «непопадане в цел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.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ази дума с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от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я к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аш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еспособнос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д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отговорим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Божия идеал 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0" lang="bg-BG" sz="4000" spc="-1" strike="noStrike">
                <a:solidFill>
                  <a:srgbClr val="ffff66"/>
                </a:solidFill>
                <a:latin typeface="Tahoma"/>
              </a:rPr>
              <a:t>виж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 Рим. 3:23; 7:15—24; Ис. 1:4—6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7680" y="498600"/>
            <a:ext cx="816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Ключови м</a:t>
            </a:r>
            <a:r>
              <a:rPr b="1" lang="bg-BG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7680" y="2133720"/>
            <a:ext cx="824544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.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ес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л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ва 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реднамерено нарушение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Бож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я закон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доброволно действи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епослушан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0" i="1" lang="bg-BG" sz="4000" spc="-1" strike="noStrike">
                <a:solidFill>
                  <a:srgbClr val="ffff66"/>
                </a:solidFill>
                <a:latin typeface="Tahoma"/>
              </a:rPr>
              <a:t>виж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 1 Ин. 3:4; Рим. 7:7— 13)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7680" y="498600"/>
            <a:ext cx="816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Ключови м</a:t>
            </a:r>
            <a:r>
              <a:rPr b="1" lang="bg-BG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7680" y="2133720"/>
            <a:ext cx="8245440" cy="39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5. Бог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ал Своя закон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 да н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откр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аш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греховно 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тояние.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икога не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 въз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мер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ал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да направ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средств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спасен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или разрешен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 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роблем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 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греха 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0" i="1" lang="bg-BG" sz="4000" spc="-1" strike="noStrike">
                <a:solidFill>
                  <a:srgbClr val="ffff66"/>
                </a:solidFill>
                <a:latin typeface="Tahoma"/>
              </a:rPr>
              <a:t>виж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 Рим. 3:20; Гал. 2:16; 3:21, 22; 5:4)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-GOL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7680" y="498600"/>
            <a:ext cx="816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Ключови м</a:t>
            </a:r>
            <a:r>
              <a:rPr b="1" lang="bg-BG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7680" y="2133720"/>
            <a:ext cx="82454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6. Зако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т трябва да ни доведе пр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 да бъдем оправдани чрез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0" i="1" lang="bg-BG" sz="4000" spc="-1" strike="noStrike">
                <a:solidFill>
                  <a:srgbClr val="ffff66"/>
                </a:solidFill>
                <a:latin typeface="Tahoma"/>
              </a:rPr>
              <a:t>виж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 Гал. 3:24)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0506080X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3048120"/>
            <a:ext cx="4800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ака, законът стана за нас детеводител, да ни доведе при Христа, за да се оправдаем чрез вя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2440" y="6858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99"/>
                </a:solidFill>
                <a:latin typeface="Tahoma"/>
              </a:rPr>
              <a:t>Галатяни 3: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0505029X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-HOTRED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71800" y="1371600"/>
            <a:ext cx="3733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ahoma"/>
              </a:rPr>
              <a:t>Изкупителната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ahoma"/>
              </a:rPr>
              <a:t>Божия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ahoma"/>
              </a:rPr>
              <a:t>любо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7" name="CRSTHRN" descr="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DAD" descr=""/>
          <p:cNvPicPr/>
          <p:nvPr/>
        </p:nvPicPr>
        <p:blipFill>
          <a:blip r:embed="rId3"/>
          <a:stretch/>
        </p:blipFill>
        <p:spPr>
          <a:xfrm>
            <a:off x="0" y="2209680"/>
            <a:ext cx="2867040" cy="464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0509033X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0510024X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3240"/>
          <a:ext cx="9144000" cy="6851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0510024X2" descr=""/>
          <p:cNvPicPr/>
          <p:nvPr/>
        </p:nvPicPr>
        <p:blipFill>
          <a:blip r:embed="rId3"/>
          <a:stretch/>
        </p:blipFill>
        <p:spPr>
          <a:xfrm>
            <a:off x="0" y="3638520"/>
            <a:ext cx="4191120" cy="3143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6" name="0509033X3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7" name="0510029X1" descr=""/>
          <p:cNvPicPr/>
          <p:nvPr/>
        </p:nvPicPr>
        <p:blipFill>
          <a:blip r:embed="rId5"/>
          <a:stretch/>
        </p:blipFill>
        <p:spPr>
          <a:xfrm>
            <a:off x="2590920" y="1881360"/>
            <a:ext cx="3886200" cy="2914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0526015X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NTRO07" descr=""/>
          <p:cNvPicPr/>
          <p:nvPr/>
        </p:nvPicPr>
        <p:blipFill>
          <a:blip r:embed="rId1"/>
          <a:stretch/>
        </p:blipFill>
        <p:spPr>
          <a:xfrm>
            <a:off x="-990720" y="0"/>
            <a:ext cx="10744200" cy="693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638680"/>
            <a:ext cx="868680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0066"/>
                </a:solidFill>
                <a:latin typeface="Tahoma"/>
              </a:rPr>
              <a:t>А ние всички, с открито лице, като в огледало, гледайки Господната слава, се преобразяваме в същия образ, от слава в слава, както от Духа Господен.        </a:t>
            </a:r>
            <a:r>
              <a:rPr b="1" lang="bg-BG" sz="2200" spc="-1" strike="noStrike">
                <a:solidFill>
                  <a:srgbClr val="ff7c80"/>
                </a:solidFill>
                <a:latin typeface="Tahoma"/>
              </a:rPr>
              <a:t>2 Кор. 3: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501070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838080" y="1828800"/>
            <a:ext cx="77724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Проблем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с грехъ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0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0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515047X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080" y="2209680"/>
            <a:ext cx="405432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 Бог видя всичко, което създаде; и ето, беше твърде добро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9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 началото Бог създаде небето и земя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5880"/>
            <a:ext cx="3216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600" spc="-1" strike="noStrike">
                <a:solidFill>
                  <a:srgbClr val="ffff66"/>
                </a:solidFill>
                <a:latin typeface="Tahoma"/>
              </a:rPr>
              <a:t>Битие 1: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9:49:55Z</dcterms:created>
  <dc:creator>Peter Konstantinov</dc:creator>
  <dc:description/>
  <dc:language>en-US</dc:language>
  <cp:lastModifiedBy>Peter Konstantinov</cp:lastModifiedBy>
  <dcterms:modified xsi:type="dcterms:W3CDTF">2002-09-20T11:46:01Z</dcterms:modified>
  <cp:revision>7</cp:revision>
  <dc:subject/>
  <dc:title>No Slide Title</dc:title>
</cp:coreProperties>
</file>